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2C71-A89F-4F78-99CF-52CB86E7424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4A0F-30B9-4702-B6E9-F91862B5EDC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785C-07AD-4F5C-9C5D-445BFAF2F08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5D68-E9DA-4021-B250-1D4EFC8C61A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EDF5-1FD1-49A7-A9E0-5FF2FE2F4CD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EBB0-5301-474E-BCDC-9E32EC08DD5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C907-DDA0-4588-9577-809BCF374A0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DB0-4698-41C8-9B46-20211BD9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BDAA-7D45-45AA-857D-850AD14E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BB55-E662-4F32-ADAA-A1F71960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A3DC-9D20-4E3F-A67E-186E9F0D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76F-1FC9-46D1-A3E6-838251C3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6B2-871A-444A-A2E5-D38E4602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2D8-F9C1-4BE0-AAD7-D8E7BF7D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4CFD-BF83-42BA-8B0C-9A37B789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0622-C858-4A46-B043-D7E2D1A2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39B6-3EAB-4949-B8FF-9F5F1D4A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D34-9707-47DB-8297-99CEF8C6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146-1DD0-458A-BE71-26928532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B126-3206-48A2-BD9F-FD3D95EAD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cyclic &amp; Cyclic Electron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kvhs.nbed.nb.ca/gallant/biology/photosynth_summar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1957320" y="1600200"/>
            <a:ext cx="5227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gh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ccur on the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hylakoi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igments capture light energy and excite e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o a higher energ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ove down electron transpor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DP is reduced to NAD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emiosmotic generation of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l.mahidol.ac.th/e-media/electrochemistry/web/pictures/nad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amide adenine dinucleotide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nzyme used in anabolic reactions such as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1"/>
          <a:stretch/>
        </p:blipFill>
        <p:spPr>
          <a:xfrm>
            <a:off x="4648320" y="1641600"/>
            <a:ext cx="403848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ccurs in the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trom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light or the d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cycle of enzyme-catalyzed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es energy from the ATP and NADPH produced in the light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ms organic molecules from CO</a:t>
            </a:r>
            <a:r>
              <a:rPr b="0" lang="en-CA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arbon fix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1-10-28T04:14:36Z</dcterms:modified>
  <cp:revision>85</cp:revision>
  <dc:subject/>
  <dc:title>Slide 1</dc:title>
</cp:coreProperties>
</file>